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applause.wav" ContentType="audio/x-wav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35D-7A80-45B9-9F79-511BDC66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C22-83CE-43C9-9127-6E53C6D2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500-9B40-4DBB-A11A-AD722C66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8516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8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258516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118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7D5-3F8D-4436-8E62-9F80BE05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4BB-CB31-4000-8A95-22A3D1AA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74D4-14B0-4F05-9989-AC68F63F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2CE9-E486-411F-AC54-EFDC186F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9FDC-F3FA-4158-91F4-12973532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D5EA-5E92-4AFB-8EFA-7F1C567F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2200" y="228240"/>
            <a:ext cx="749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2870-5D1B-4AC2-8539-1E80B669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FBFE-2771-42F0-86E4-AF22C48E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D96-A8C2-405E-8ACE-966E437A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1600-4447-4533-94E9-53CC18B8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A02-B9F9-4EB5-A4AD-77EF033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9C64-2B07-415C-B4E8-AF74242A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9612-93FD-4A55-B3AA-8EAEB297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8516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18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20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58516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118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570E-E156-4316-A9F4-3AF66DE3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40D-4316-4A79-AEA0-03FFF1B7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EEB-7AF1-4189-A331-F215DB47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995-E986-4CFB-AA42-820E0C8F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" y="228240"/>
            <a:ext cx="749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589-0754-4A27-97C7-5CC45FF1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F19-7026-4A07-84CB-14FCE41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3CC-0CC3-4AAA-B729-5302AD1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5CC-5733-4CD8-B8E5-521D946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3404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27E-8394-4A6B-92C6-5731F6E55D47}" type="slidenum"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586640" y="0"/>
            <a:ext cx="1557360" cy="6878520"/>
            <a:chOff x="7586640" y="0"/>
            <a:chExt cx="1557360" cy="6878520"/>
          </a:xfrm>
        </p:grpSpPr>
        <p:sp>
          <p:nvSpPr>
            <p:cNvPr id="6" name=""/>
            <p:cNvSpPr/>
            <p:nvPr/>
          </p:nvSpPr>
          <p:spPr>
            <a:xfrm flipH="1">
              <a:off x="824400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879264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42436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792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24508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24508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4508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24508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824508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824508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824508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824220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824400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879264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842436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792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824508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824508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824508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824508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824508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824184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824508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824220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854352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824508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758664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9298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12016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806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333300"/>
                </a:solidFill>
                <a:latin typeface="Times New Roman (Arabic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00"/>
                </a:solidFill>
                <a:latin typeface="Times New Roman (Arabic)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6572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FCD1-DF5F-4E79-A1BD-30D15F410E62}" type="slidenum"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586640" y="0"/>
            <a:ext cx="1557360" cy="6878520"/>
            <a:chOff x="7586640" y="0"/>
            <a:chExt cx="1557360" cy="6878520"/>
          </a:xfrm>
        </p:grpSpPr>
        <p:sp>
          <p:nvSpPr>
            <p:cNvPr id="76" name=""/>
            <p:cNvSpPr/>
            <p:nvPr/>
          </p:nvSpPr>
          <p:spPr>
            <a:xfrm flipH="1">
              <a:off x="824400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79264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42436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92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24508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4508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24508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24508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24508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24508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24508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24220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24400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79264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42436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792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24508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824508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24508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24508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24508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24184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24508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24220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54352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824508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58664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298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2016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443280" y="1428840"/>
            <a:ext cx="2095560" cy="2095560"/>
            <a:chOff x="6443280" y="1428840"/>
            <a:chExt cx="2095560" cy="2095560"/>
          </a:xfrm>
        </p:grpSpPr>
        <p:sp>
          <p:nvSpPr>
            <p:cNvPr id="106" name=""/>
            <p:cNvSpPr/>
            <p:nvPr/>
          </p:nvSpPr>
          <p:spPr>
            <a:xfrm flipH="1">
              <a:off x="644292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825960" y="1610640"/>
              <a:ext cx="1712880" cy="1683360"/>
              <a:chOff x="6825960" y="1610640"/>
              <a:chExt cx="171288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825960" y="1610640"/>
                <a:ext cx="1712880" cy="1683360"/>
                <a:chOff x="6825960" y="1610640"/>
                <a:chExt cx="171288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6825960" y="1610640"/>
                  <a:ext cx="1712880" cy="1683360"/>
                  <a:chOff x="6825960" y="1610640"/>
                  <a:chExt cx="171288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flipH="1">
                    <a:off x="682920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682920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flipV="1" rot="16200000">
                    <a:off x="757512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 rot="5400000">
                    <a:off x="615744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 flipH="1">
                  <a:off x="69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70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71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72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346520" y="2135160"/>
                <a:ext cx="709560" cy="638280"/>
                <a:chOff x="7346520" y="2135160"/>
                <a:chExt cx="70956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765000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76417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760212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770544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734616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765720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 (Arabic)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 (Arabic)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999933"/>
              </a:buClr>
              <a:buFont typeface="Times New Roman (Arabic)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333300"/>
                </a:solidFill>
                <a:uFillTx/>
                <a:latin typeface="Times New Roman"/>
              </a:rPr>
              <a:t>تمارين لتخفيف الكر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62499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1- 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لاتشـرب الماء قبل الطعام أو بين الأكل أو بعده.. واشـرب الماء بعد الطعام بنص ساعه وكلما بَعُـدَ الوقت كلما كان أحسن..ا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2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الإبتعاد عن المشروبات الغازيه..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3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الإقلال من أكل العيش (الأرز) والأشياء الي تسبب الغازات..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4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المشي على الأقل نص ساعه في اليوم.. والاكثار في شرب الماء أثناء الرياضه 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5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وهذه تمارين رياضية للبطن حاول أن تمارسها صباحاً أو مساءً أو وقت الفراغ كلما سنحت لك الفرصة . 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هل مستعدين هيا نبدأ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أسـفل البطـن وأفخاذ تعمله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844720" y="2790720"/>
            <a:ext cx="190656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koomi@hotmail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21040" y="2354400"/>
            <a:ext cx="3554280" cy="30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ال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</a:rPr>
              <a:t>تمرين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 الاول: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</a:rPr>
              <a:t> الوقوف على طرف الأقدام 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</a:rPr>
              <a:t>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4720" y="2301840"/>
            <a:ext cx="190656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4912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أرجـل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ـل اليمنى 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ـل اليسـر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44720" y="2790720"/>
            <a:ext cx="190656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معدة ( هذا محتاج إشوي تحمل ) لأن إشـوي صـعب تعمله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أيضاً تمرين للمعدة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ل اليمنى 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ل اليسر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44720" y="3333600"/>
            <a:ext cx="1906560" cy="10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أرداف تعمله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هذا التمرين ممتاز جداً لشـد البطن تعمله وكما م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أيضـاً تمرين للأرداف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مرات للرجل اليمنى 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ل اليسـر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خواصـر تعمله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720" y="2573280"/>
            <a:ext cx="1906560" cy="261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9:50:44Z</dcterms:created>
  <dc:creator> </dc:creator>
  <dc:description/>
  <dc:language>en-US</dc:language>
  <cp:lastModifiedBy>hokoomi</cp:lastModifiedBy>
  <dcterms:modified xsi:type="dcterms:W3CDTF">2005-09-25T10:38:43Z</dcterms:modified>
  <cp:revision>11</cp:revision>
  <dc:subject/>
  <dc:title>تمارين لتخفيف الكرش</dc:title>
</cp:coreProperties>
</file>