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applause.wav" ContentType="audio/x-wav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2DA-9ABB-4584-B5E0-BE7A2A64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200" y="398664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D2A-5C79-446F-8FB5-66D2D48A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89088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93C-D506-4BE5-976D-4FA4A030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8516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18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20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258516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118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D3A-4DE3-499B-9F3F-CA0C75CC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A029-ECC0-401D-8677-2D046E22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3C75-62B0-4F10-B15B-28CEAF6A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08E4-9453-467B-A903-52B359BA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D104-1353-42A7-9CEA-3322FD20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1AA6-0D69-4C55-945A-F1B4F313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2200" y="228240"/>
            <a:ext cx="749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3CB7-9057-484C-A373-C54A24A2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A1FC-D9C9-49A6-B9ED-4478306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42B-A13B-4795-A4D4-9C6E5344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9088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F7B9-8552-4E7A-A1BF-7F653D3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6A2-EFB8-4D9E-9151-5F8ABA8D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200" y="398664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3B91-4414-4CF5-ACDE-7A7FBF42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9088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E15-BD4B-45A6-9A55-00BAF095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8516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18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220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58516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118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67DB-96ED-4985-A023-B7C14C40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E2F-E6A3-48EB-B723-9A279712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E86-8858-463D-82E1-215C524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908-37A0-4547-938D-3AB6B02D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2200" y="228240"/>
            <a:ext cx="749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5FA-7B29-4756-A71F-6BCAB391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3E0-EC10-4FAC-B378-911243A8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890880" y="398664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101-3AD5-4380-B15C-217B1DB0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90880" y="1523520"/>
            <a:ext cx="3655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" y="3986640"/>
            <a:ext cx="74912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A91-F10D-4486-A9AE-5449BF7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9933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9933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9933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9933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333300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333300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3404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EE03-CF73-4B92-B72E-0B1739435E95}" type="slidenum"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586640" y="0"/>
            <a:ext cx="1557360" cy="6878520"/>
            <a:chOff x="7586640" y="0"/>
            <a:chExt cx="1557360" cy="6878520"/>
          </a:xfrm>
        </p:grpSpPr>
        <p:sp>
          <p:nvSpPr>
            <p:cNvPr id="6" name=""/>
            <p:cNvSpPr/>
            <p:nvPr/>
          </p:nvSpPr>
          <p:spPr>
            <a:xfrm flipH="1">
              <a:off x="824400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879264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42436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792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24508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24508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4508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824508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824508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824508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824508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824220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824400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879264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842436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792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824508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824508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824508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824508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824508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824184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824508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824220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854352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824508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758664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9298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12016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806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333300"/>
                </a:solidFill>
                <a:latin typeface="Times New Roman (Arabic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00"/>
                </a:solidFill>
                <a:latin typeface="Times New Roman (Arabic)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6572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D4A5-1B2E-4E5B-9A6C-81BDA19572C2}" type="slidenum">
              <a:rPr b="0" lang="ar-SA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586640" y="0"/>
            <a:ext cx="1557360" cy="6878520"/>
            <a:chOff x="7586640" y="0"/>
            <a:chExt cx="1557360" cy="6878520"/>
          </a:xfrm>
        </p:grpSpPr>
        <p:sp>
          <p:nvSpPr>
            <p:cNvPr id="76" name=""/>
            <p:cNvSpPr/>
            <p:nvPr/>
          </p:nvSpPr>
          <p:spPr>
            <a:xfrm flipH="1">
              <a:off x="824400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79264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42436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92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24508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4508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24508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24508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24508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24508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24508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24220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24400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79264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42436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792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824508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824508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24508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24508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24508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24184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24508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24220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54352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824508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58664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298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2016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443280" y="1428840"/>
            <a:ext cx="2095560" cy="2095560"/>
            <a:chOff x="6443280" y="1428840"/>
            <a:chExt cx="2095560" cy="2095560"/>
          </a:xfrm>
        </p:grpSpPr>
        <p:sp>
          <p:nvSpPr>
            <p:cNvPr id="106" name=""/>
            <p:cNvSpPr/>
            <p:nvPr/>
          </p:nvSpPr>
          <p:spPr>
            <a:xfrm flipH="1">
              <a:off x="644292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825960" y="1610640"/>
              <a:ext cx="1712880" cy="1683360"/>
              <a:chOff x="6825960" y="1610640"/>
              <a:chExt cx="1712880" cy="1683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6825960" y="1610640"/>
                <a:ext cx="1712880" cy="1683360"/>
                <a:chOff x="6825960" y="1610640"/>
                <a:chExt cx="1712880" cy="16833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6825960" y="1610640"/>
                  <a:ext cx="1712880" cy="1683360"/>
                  <a:chOff x="6825960" y="1610640"/>
                  <a:chExt cx="1712880" cy="168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flipH="1">
                    <a:off x="682920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>
                    <a:off x="682920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flipV="1" rot="16200000">
                    <a:off x="757512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V="1" rot="5400000">
                    <a:off x="615744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 flipH="1">
                  <a:off x="69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70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71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72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346520" y="2135160"/>
                <a:ext cx="709560" cy="638280"/>
                <a:chOff x="7346520" y="2135160"/>
                <a:chExt cx="709560" cy="638280"/>
              </a:xfrm>
            </p:grpSpPr>
            <p:sp>
              <p:nvSpPr>
                <p:cNvPr id="119" name=""/>
                <p:cNvSpPr/>
                <p:nvPr/>
              </p:nvSpPr>
              <p:spPr>
                <a:xfrm flipH="1">
                  <a:off x="765000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76417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760212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770544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>
                  <a:off x="734616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765720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 (Arabic)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Times New Roman (Arabic)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 (Arabic)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Times New Roman (Arabic)"/>
            </a:endParaRPr>
          </a:p>
          <a:p>
            <a:pPr lvl="2" marL="914400" algn="ctr" rtl="1">
              <a:spcBef>
                <a:spcPts val="601"/>
              </a:spcBef>
              <a:buClr>
                <a:srgbClr val="999933"/>
              </a:buClr>
              <a:buFont typeface="Times New Roman (Arabic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 (Arabic)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Times New Roman (Arabic)"/>
            </a:endParaRPr>
          </a:p>
          <a:p>
            <a:pPr lvl="3" marL="1371600" algn="ctr" rtl="1">
              <a:spcBef>
                <a:spcPts val="499"/>
              </a:spcBef>
              <a:buClr>
                <a:srgbClr val="999933"/>
              </a:buClr>
              <a:buFont typeface="Times New Roman (Arabic)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 (Arabic)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  <a:p>
            <a:pPr lvl="4" marL="1828800" algn="ctr" rtl="1">
              <a:spcBef>
                <a:spcPts val="499"/>
              </a:spcBef>
              <a:buClr>
                <a:srgbClr val="999933"/>
              </a:buClr>
              <a:buFont typeface="Times New Roman (Arabic)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 (Arabic)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 (Arabic)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 (Arabic)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333300"/>
                </a:solidFill>
                <a:uFillTx/>
                <a:latin typeface="Times New Roman"/>
              </a:rPr>
              <a:t>تمارين لتخفيف الكر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62499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1- 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لاتشـرب الماء قبل الطعام أو بين الأكل أو بعده.. واشـرب الماء بعد الطعام بنص ساعه وكلما بَعُـدَ الوقت كلما كان أحسن..ا</a:t>
            </a: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2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- الإبتعاد عن المشروبات الغازيه..</a:t>
            </a: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3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- الإقلال من أكل العيش (الأرز) والأشياء الي تسبب الغازات..</a:t>
            </a: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4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- المشي على الأقل نص ساعه في اليوم.. والاكثار في شرب الماء أثناء الرياضه </a:t>
            </a: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5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- وهذه تمارين رياضية للبطن حاول أن تمارسها صباحاً أو مساءً أو وقت الفراغ كلما سنحت لك الفرصة . </a:t>
            </a: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هل مستعدين هيا نبدأ</a:t>
            </a:r>
            <a:r>
              <a:rPr b="1" lang="ar-SA" sz="2000" spc="-1" strike="noStrike">
                <a:solidFill>
                  <a:srgbClr val="333300"/>
                </a:solidFill>
                <a:latin typeface="Times New Roman (Arabic)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333300"/>
              </a:solidFill>
              <a:latin typeface="Times New Roman (Arabic)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أسـفل البطـن وأفخاذ تعمله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844720" y="2790720"/>
            <a:ext cx="190656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koomi@hotmail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21040" y="2354400"/>
            <a:ext cx="3554280" cy="30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ال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</a:rPr>
              <a:t>تمرين</a:t>
            </a: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 الاول: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</a:rPr>
              <a:t> الوقوف على طرف الأقدام </a:t>
            </a: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0000ff"/>
                </a:solidFill>
                <a:latin typeface="Times New Roman"/>
              </a:rPr>
              <a:t>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4720" y="2301840"/>
            <a:ext cx="190656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74912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الأرجـل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ـل اليمنى و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ـل اليسـر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44720" y="2790720"/>
            <a:ext cx="1906560" cy="21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المعدة ( هذا محتاج إشوي تحمل ) لأن إشـوي صـعب تعمله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844720" y="3265560"/>
            <a:ext cx="1906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أيضاً تمرين للمعدة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ل اليمنى و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ل اليسر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44720" y="3333600"/>
            <a:ext cx="1906560" cy="10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الأرداف تعمله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44720" y="3265560"/>
            <a:ext cx="1906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هذا التمرين ممتاز جداً لشـد البطن تعمله وكما مو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44720" y="3265560"/>
            <a:ext cx="1906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أيضـاً تمرين للأرداف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مرات للرجل اليمنى و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 مرات للرجل اليسـر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44720" y="3265560"/>
            <a:ext cx="190656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22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تمرين الخواصـر تعمله 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10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×</a:t>
            </a:r>
            <a:r>
              <a:rPr b="0" lang="ar-AE" sz="40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ar-SA" sz="4000" spc="-1" strike="noStrike">
                <a:solidFill>
                  <a:srgbClr val="333300"/>
                </a:solidFill>
                <a:latin typeface="Times New Roman"/>
              </a:rPr>
              <a:t>مرات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720" y="2573280"/>
            <a:ext cx="1906560" cy="261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9:50:44Z</dcterms:created>
  <dc:creator> </dc:creator>
  <dc:description/>
  <dc:language>en-US</dc:language>
  <cp:lastModifiedBy>hokoomi</cp:lastModifiedBy>
  <dcterms:modified xsi:type="dcterms:W3CDTF">2005-09-25T10:38:43Z</dcterms:modified>
  <cp:revision>11</cp:revision>
  <dc:subject/>
  <dc:title>تمارين لتخفيف الكرش</dc:title>
</cp:coreProperties>
</file>